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5CD3-C5AE-4D43-A9D9-A41796B9C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2725-8790-48D7-88BF-056665B77A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DDE6-B42A-4FC4-8312-47221D4A2A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66164-B16D-4E89-B393-47BD2C36CD3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B0AB7-E631-48DD-AF4C-4C43B3BAF2B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375F3-0FF3-4AD4-B303-ED27E26859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7A5C-CF86-450D-A9EB-FB90EAC5F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01B8-5B4E-4E28-8B77-DD3F575B40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8316-C7B9-40CF-A6B7-89980B0BF11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702A-E6F8-4969-AA15-BB3A965A01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C4ED-AFCD-49B1-B556-580EB13772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A40AE-6AC3-46E0-A3EB-E0E324473C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1BCC-7A24-4AC1-9888-22AD2741BB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52B95-212F-4F8E-894C-246985C0C8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A02F-DBDB-407A-9687-C1B6197971E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6218-37FF-4FF3-9F9D-8952B4351C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5AC28-6D38-4700-95D5-2A4C961974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7AE5-A70F-4590-83DD-F5DC3B41CF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A81C0-0BD8-459D-8DE7-5E9B76B91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9EDA4-216F-41D3-93CE-3CE09ECFAC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6C8F-51A7-4B4A-BF62-EAFD52FDA4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F7BC8-8656-45D7-86CC-658D67508F3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1F8B-141D-4A0D-87E5-3ADC3EA5491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FE1F4-54A3-4890-854E-6287E0EBCC8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A902A-439B-41DE-94B7-05EC5D872B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25F3-CBC6-4E67-871F-DFD6A30F65D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EF78-D4F9-4B1F-88CB-D4228E9DD9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C8737-52F4-43A2-954F-D8385A545D9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8DA6-7C92-474B-B16C-59D9E25503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C3A3-5F7D-4090-A183-26D2C4DCA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BCA3-AA4D-4C87-9C81-D7B8D445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CB5-A06A-4358-B633-B61E23C6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B8F-9641-41D7-807C-853A991B9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1340-19A1-47C4-B7CB-3777DCF7E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BE9-5125-4A0A-A1C2-13F97C1B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31C4-4D1F-4B22-BB01-CA884A1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F524-FE75-4CA4-9ABC-F40E6E9D3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CE6-E4C0-4E74-8C24-627480F55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70D-7560-4B7E-9577-ADE9FBE4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4027-2565-48CC-9CFF-222B3C737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44C2-9EFB-4EA6-B2F6-BF09E36C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1203-B2E9-49B6-A011-6577275095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image" Target="../media/image1.gi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Berry Si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Polar B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Armadil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Milk Sn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Other Zoo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26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27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839520" y="380880"/>
            <a:ext cx="7718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two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nimals m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p most 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’s die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58640" y="533520"/>
            <a:ext cx="84362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adaptati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helps the pola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ar blend int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ir environme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991800" y="533520"/>
            <a:ext cx="7131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s ar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ept warm b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layer unde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ski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83040" y="1066680"/>
            <a:ext cx="8587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averag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ife span of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rmadillo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457200" y="533520"/>
            <a:ext cx="84582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6699"/>
                </a:solidFill>
                <a:latin typeface="Times New Roman"/>
              </a:rPr>
              <a:t>True or fals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e armadillo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needs temperature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around 67-70°F 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11640" y="1219320"/>
            <a:ext cx="8094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what bab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e calle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60440" y="1523880"/>
            <a:ext cx="8369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ar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ature at this ag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991440" y="533520"/>
            <a:ext cx="7227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allow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rmadill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o mov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ound at nigh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861480" y="1143000"/>
            <a:ext cx="7687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nother nam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a milk sn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101960" y="990720"/>
            <a:ext cx="750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an live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ong in the wil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2209680" y="175248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62120" y="1219320"/>
            <a:ext cx="7619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a part of thi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nake famil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6"/>
          <p:cNvSpPr/>
          <p:nvPr/>
        </p:nvSpPr>
        <p:spPr>
          <a:xfrm>
            <a:off x="1069200" y="914400"/>
            <a:ext cx="7040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how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ilk snak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 </a:t>
            </a: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ills its pre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83040" y="533520"/>
            <a:ext cx="8463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dult Komod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ragons will feed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n this animal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bundant in PA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97560" y="914400"/>
            <a:ext cx="8965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are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ison Dart Frog’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od sourc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765360" y="838080"/>
            <a:ext cx="7502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third stag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f the Monarch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ife cycle is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118440" y="762120"/>
            <a:ext cx="9024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onarch butterfl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lay their egg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is pla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64280" y="838080"/>
            <a:ext cx="759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helter fo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Giant Panda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546840" y="838080"/>
            <a:ext cx="8030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corn snake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ody temperatur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epends on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1219320" y="1066680"/>
            <a:ext cx="6495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age 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ction Button: Custom 4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838080" y="1447920"/>
            <a:ext cx="784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food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 ea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2803680" y="1712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3339360" y="156060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uc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219320" y="1447920"/>
            <a:ext cx="7284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s weigh this much</a:t>
            </a:r>
            <a:r>
              <a:rPr b="0" lang="en-US" sz="4800" spc="-1" strike="noStrike">
                <a:solidFill>
                  <a:srgbClr val="666699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ction Button: Custom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1028"/>
          <p:cNvSpPr/>
          <p:nvPr/>
        </p:nvSpPr>
        <p:spPr>
          <a:xfrm>
            <a:off x="1626840" y="1116000"/>
            <a:ext cx="6261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name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f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20560" y="762120"/>
            <a:ext cx="8277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se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protectio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534600" y="685800"/>
            <a:ext cx="81223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ree of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ountries in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hich polar bear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usually liv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09480" y="53352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-40°F, 0°F, or 40°F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Polar bears need to be in an environment at this temperature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00:32Z</dcterms:created>
  <dc:creator>Philip Bigler</dc:creator>
  <dc:description/>
  <dc:language>en-US</dc:language>
  <cp:lastModifiedBy>Vernice Mulcahy</cp:lastModifiedBy>
  <dcterms:modified xsi:type="dcterms:W3CDTF">2009-12-08T01:17:06Z</dcterms:modified>
  <cp:revision>28</cp:revision>
  <dc:subject/>
  <dc:title>Slide 1</dc:title>
</cp:coreProperties>
</file>